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13.png" ContentType="image/png"/>
  <Override PartName="/ppt/media/image6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4.wmf" ContentType="image/x-wmf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9B02-13F1-4157-A901-6709EDDED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B110-AF54-4247-88E3-D6509D444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ACE4-59E8-4D84-BA6F-CD49741B9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E202-8F8A-486C-8153-8F95EC289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E498A-288E-4FCF-BB8D-3C391D032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8994C-23C1-494D-9C0F-88E329BBA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83CE4-D838-4F10-9B0A-50A4C80E7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50EEE-87FC-449F-B9DB-86DAF8836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2881E-B235-4A39-8F71-5C509C72C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91EC9-1756-4B0A-857E-3D0AAC2CC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20B5B-272C-4F63-BBB4-94EDE48E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BBC0-2358-402C-AF90-B97228E1D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6C5D6-9FA2-4177-BAD8-2564592B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73726-D787-4DA3-B481-CF44ABEC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0AFC6-1EEB-4DB9-9179-4CC3FF14D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2AA9E-22E7-47E9-9E84-795338585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85DA0-65CA-410F-B9A7-801EDBE0D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0469B-88FC-463A-B477-11101ACE3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4B715-BC4A-4C94-A097-A55FB986B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21E2D-C368-4B9A-A4AD-27F962758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EB94C-F780-4902-95B4-CF1B0ACDF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A8C3A-08C2-4200-839D-B07EDB355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8BE0-68A2-4C67-B24E-115D20610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AA0C2-AAE4-4903-9DAB-E1059D16B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67F45-54F6-43AE-B523-6ECFB932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54B8E-72DF-4F09-9849-F5F75CCF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BC3DE-6B1A-40F2-BC08-123852B9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17343-0C0D-458E-AFF4-39395CA63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C1D88-DA21-4A14-A3AB-E5D6DA479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DB81D-AB15-45BC-BFA8-703AD627C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DB127-1EC3-4867-8188-47D0870C6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4B6E2-11E9-4AE4-AA95-D8D5CCF0A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916E1-0F6B-41EC-A550-E2F694BAD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AD78-435F-48FC-9544-057FF39B6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98000-F8B4-4FB8-A08A-8B8D82270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1BA85-1520-468B-95CE-932B9BD88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534F7-D8D6-4766-9F16-D929E0097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EBA1D-2F67-4940-B27C-EC0C9A86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689D0-8711-4DB7-8662-2751E77B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DB9E6-3D90-4D2D-9320-E442BBD9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2843F-D86A-4342-B1F7-57D6C5299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0A567-EFC1-40A0-A640-BBD23FA5E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B8E25-F02D-4553-B673-8DC3421BE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ED3F-5108-4286-8A46-3EB417011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E32D-4D09-4F19-924A-BD49E764E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DEC2-C9A0-447C-AA33-7CEA796A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0A6E-2017-4227-959C-BDB84E126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2DD9-AB25-49E7-94B9-35AD1C17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715E2-2E52-42E3-A872-186F3E3C2E5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CB2A3-9BA2-48C4-952C-C614E61DAE3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9ABAA-8E72-4291-9624-DFE4C4B0842E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ADE45-DCB0-4B2C-99F8-FDF97690FCE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6fc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dbf5f9"/>
                </a:solidFill>
                <a:latin typeface="Arial"/>
              </a:rPr>
              <a:t>Мутагени агенси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c00000"/>
                </a:solidFill>
                <a:latin typeface="Constantia"/>
              </a:rPr>
              <a:t>• </a:t>
            </a:r>
            <a:r>
              <a:rPr b="1" lang="sr-CS" sz="2800" spc="-1" strike="noStrike">
                <a:solidFill>
                  <a:srgbClr val="c00000"/>
                </a:solidFill>
                <a:latin typeface="Constantia"/>
              </a:rPr>
              <a:t>Базни аналози</a:t>
            </a:r>
            <a:r>
              <a:rPr b="0" lang="sr-CS" sz="28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- супституција оригиналних баз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i="1" lang="sr-CS" sz="2800" spc="-1" strike="noStrike">
                <a:solidFill>
                  <a:srgbClr val="000000"/>
                </a:solidFill>
                <a:latin typeface="Constantia"/>
              </a:rPr>
              <a:t>5-бромурацил – 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уместо Т – спарује се са 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G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sr-CS" sz="2800" spc="-1" strike="noStrike">
                <a:solidFill>
                  <a:srgbClr val="000000"/>
                </a:solidFill>
                <a:latin typeface="Constantia"/>
              </a:rPr>
              <a:t>2-аминопурин - 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уместо А – спарује се са 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G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c00000"/>
                </a:solidFill>
                <a:latin typeface="Constantia"/>
              </a:rPr>
              <a:t>•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sr-CS" sz="2800" spc="-1" strike="noStrike">
                <a:solidFill>
                  <a:srgbClr val="c00000"/>
                </a:solidFill>
                <a:latin typeface="Constantia"/>
              </a:rPr>
              <a:t>Азотне базе </a:t>
            </a:r>
            <a:r>
              <a:rPr b="1" lang="sr-CS" sz="28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i="1" lang="sr-C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хемикалије које мењају структуру баз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врше дезаминацију база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елиминација амино груп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из базе 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i="1" lang="sr-CS" sz="2800" spc="-1" strike="noStrike">
                <a:solidFill>
                  <a:srgbClr val="000000"/>
                </a:solidFill>
                <a:latin typeface="Constantia"/>
              </a:rPr>
              <a:t>азотаста кис., етил-метансулфонат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- дезаминацијом 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–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настаје 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U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- дезаминацијом </a:t>
            </a:r>
            <a:r>
              <a:rPr b="0" lang="fr-FR" sz="2800" spc="-1" strike="noStrike">
                <a:solidFill>
                  <a:srgbClr val="000000"/>
                </a:solidFill>
                <a:latin typeface="Constantia"/>
              </a:rPr>
              <a:t>G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настаје </a:t>
            </a:r>
            <a:r>
              <a:rPr b="0" lang="fr-FR" sz="2800" spc="-1" strike="noStrike">
                <a:solidFill>
                  <a:srgbClr val="000000"/>
                </a:solidFill>
                <a:latin typeface="Constantia"/>
              </a:rPr>
              <a:t>ксантин (ксантин се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fr-FR" sz="2800" spc="-1" strike="noStrike">
                <a:solidFill>
                  <a:srgbClr val="000000"/>
                </a:solidFill>
                <a:latin typeface="Constantia"/>
              </a:rPr>
              <a:t>некада спарује са 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lang="fr-FR" sz="2800" spc="-1" strike="noStrike">
                <a:solidFill>
                  <a:srgbClr val="000000"/>
                </a:solidFill>
                <a:latin typeface="Constantia"/>
              </a:rPr>
              <a:t>, а у неким слу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чајевима се не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спарује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,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 па се репликација зауставља)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- дезаминацијом 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А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настаје 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хипоксантин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везује се за 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0" y="54900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396000" indent="-39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c00000"/>
                </a:solidFill>
                <a:latin typeface="Constantia"/>
              </a:rPr>
              <a:t>•</a:t>
            </a:r>
            <a:r>
              <a:rPr b="0" i="1" lang="sr-CS" sz="2800" spc="-1" strike="noStrike">
                <a:solidFill>
                  <a:srgbClr val="e2d700"/>
                </a:solidFill>
                <a:latin typeface="Constantia"/>
              </a:rPr>
              <a:t> </a:t>
            </a:r>
            <a:r>
              <a:rPr b="1" lang="sr-Latn-CS" sz="2800" spc="-1" strike="noStrike">
                <a:solidFill>
                  <a:srgbClr val="c00000"/>
                </a:solidFill>
                <a:latin typeface="Constantia"/>
              </a:rPr>
              <a:t>Алкилирајући агенси</a:t>
            </a:r>
            <a:r>
              <a:rPr b="1" lang="sr-CS" sz="28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0" lang="sr-Latn-CS" sz="2800" spc="-1" strike="noStrike">
                <a:solidFill>
                  <a:srgbClr val="c00000"/>
                </a:solidFill>
                <a:latin typeface="Constantia"/>
              </a:rPr>
              <a:t>–</a:t>
            </a:r>
            <a:r>
              <a:rPr b="0" i="1" lang="sr-CS" sz="28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угра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ђ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ују алкил групу изме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ђ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у база у молекулу ДНК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96000" indent="-39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i="1" lang="sr-CS" sz="28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i="1" lang="sr-Latn-CS" sz="2800" spc="-1" strike="noStrike">
                <a:solidFill>
                  <a:srgbClr val="000000"/>
                </a:solidFill>
                <a:latin typeface="Constantia"/>
              </a:rPr>
              <a:t>нитр</a:t>
            </a:r>
            <a:r>
              <a:rPr b="0" i="1" lang="sr-CS" sz="2800" spc="-1" strike="noStrike">
                <a:solidFill>
                  <a:srgbClr val="000000"/>
                </a:solidFill>
                <a:latin typeface="Constantia"/>
              </a:rPr>
              <a:t>озогуанозин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96000" indent="-39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sr-CS" sz="2800" spc="-1" strike="noStrike">
                <a:solidFill>
                  <a:srgbClr val="000000"/>
                </a:solidFill>
                <a:latin typeface="Constantia"/>
              </a:rPr>
              <a:t>- метил метансулфона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96000" indent="-39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sr-CS" sz="2800" spc="-1" strike="noStrike">
                <a:solidFill>
                  <a:srgbClr val="000000"/>
                </a:solidFill>
                <a:latin typeface="Constantia"/>
              </a:rPr>
              <a:t>- етил</a:t>
            </a:r>
            <a:r>
              <a:rPr b="0" i="1" lang="sr-Latn-C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sr-CS" sz="2800" spc="-1" strike="noStrike">
                <a:solidFill>
                  <a:srgbClr val="000000"/>
                </a:solidFill>
                <a:latin typeface="Constantia"/>
              </a:rPr>
              <a:t>метансулфона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96000" indent="-39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96000" indent="-39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c00000"/>
                </a:solidFill>
                <a:latin typeface="Constantia"/>
              </a:rPr>
              <a:t>•</a:t>
            </a:r>
            <a:r>
              <a:rPr b="0" i="1" lang="sr-Latn-CS" sz="2800" spc="-1" strike="noStrike">
                <a:solidFill>
                  <a:srgbClr val="ecec0c"/>
                </a:solidFill>
                <a:latin typeface="Constantia"/>
              </a:rPr>
              <a:t> </a:t>
            </a:r>
            <a:r>
              <a:rPr b="1" lang="sr-Latn-CS" sz="2800" spc="-1" strike="noStrike">
                <a:solidFill>
                  <a:srgbClr val="c00000"/>
                </a:solidFill>
                <a:latin typeface="Constantia"/>
              </a:rPr>
              <a:t>Интеркалирајући</a:t>
            </a:r>
            <a:r>
              <a:rPr b="0" i="1" lang="sr-Latn-CS" sz="28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1" lang="sr-Latn-CS" sz="2800" spc="-1" strike="noStrike">
                <a:solidFill>
                  <a:srgbClr val="c00000"/>
                </a:solidFill>
                <a:latin typeface="Constantia"/>
              </a:rPr>
              <a:t>агенси</a:t>
            </a:r>
            <a:r>
              <a:rPr b="1" lang="sr-CS" sz="28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уграђују се изм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еђ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у баз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а; доводе до мутација типа помака (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frameshift</a:t>
            </a: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96000" indent="-39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sr-C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sr-CS" sz="2800" spc="-1" strike="noStrike">
                <a:solidFill>
                  <a:srgbClr val="000000"/>
                </a:solidFill>
                <a:latin typeface="Constantia"/>
              </a:rPr>
              <a:t>- етидиум бромид</a:t>
            </a:r>
            <a:r>
              <a:rPr b="0" i="1" lang="sr-Latn-CS" sz="2800" spc="-1" strike="noStrike">
                <a:solidFill>
                  <a:srgbClr val="000000"/>
                </a:solidFill>
                <a:latin typeface="Constantia"/>
              </a:rPr>
              <a:t> 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96000" indent="-39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sr-CS" sz="2800" spc="-1" strike="noStrike">
                <a:solidFill>
                  <a:srgbClr val="000000"/>
                </a:solidFill>
                <a:latin typeface="Constantia"/>
              </a:rPr>
              <a:t>- акридин оранж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96000" indent="-39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sr-CS" sz="2800" spc="-1" strike="noStrike">
                <a:solidFill>
                  <a:srgbClr val="000000"/>
                </a:solidFill>
                <a:latin typeface="Constantia"/>
              </a:rPr>
              <a:t>- профлавин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96000" indent="-39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96000" indent="-39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96000" indent="-39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33cc"/>
                </a:solidFill>
                <a:latin typeface="Constantia"/>
              </a:rPr>
              <a:t>Агенси који  НЕ делују директно на ДНК</a:t>
            </a:r>
            <a:r>
              <a:rPr b="1" lang="sr-C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делују на </a:t>
            </a:r>
            <a:r>
              <a:rPr b="1" lang="sr-Latn-CS" sz="2800" spc="-1" strike="noStrike" u="sng">
                <a:solidFill>
                  <a:srgbClr val="000000"/>
                </a:solidFill>
                <a:uFillTx/>
                <a:latin typeface="Constantia"/>
              </a:rPr>
              <a:t>репаративне механизме</a:t>
            </a:r>
            <a:r>
              <a:rPr b="0" lang="sr-Latn-CS" sz="2800" spc="-1" strike="noStrike">
                <a:solidFill>
                  <a:srgbClr val="000000"/>
                </a:solidFill>
                <a:latin typeface="Constantia"/>
              </a:rPr>
              <a:t> ДНК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делују на молекул </a:t>
            </a:r>
            <a:r>
              <a:rPr b="1" lang="sr-CS" sz="2800" spc="-1" strike="noStrike">
                <a:solidFill>
                  <a:srgbClr val="000000"/>
                </a:solidFill>
                <a:latin typeface="Constantia"/>
              </a:rPr>
              <a:t>РНК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nstantia"/>
              </a:rPr>
              <a:t>делују на </a:t>
            </a:r>
            <a:r>
              <a:rPr b="1" lang="sr-CS" sz="2800" spc="-1" strike="noStrike">
                <a:solidFill>
                  <a:srgbClr val="000000"/>
                </a:solidFill>
                <a:latin typeface="Constantia"/>
              </a:rPr>
              <a:t>протеин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nstantia"/>
              </a:rPr>
              <a:t>Антимутагени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- супстанце које умањују мутагено дејство  хемијских агенас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Врсте хемијских агенаса: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16000" y="1916280"/>
            <a:ext cx="65628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3333ff"/>
                </a:solidFill>
                <a:latin typeface="Arial"/>
              </a:rPr>
              <a:t>1.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600" spc="-1" strike="noStrike">
                <a:solidFill>
                  <a:srgbClr val="3333ff"/>
                </a:solidFill>
                <a:latin typeface="Arial"/>
              </a:rPr>
              <a:t>Агенси природног порекл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кафеин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теофилин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теобромин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биљни алкалоид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3333ff"/>
                </a:solidFill>
                <a:latin typeface="Arial"/>
              </a:rPr>
              <a:t>2.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600" spc="-1" strike="noStrike">
                <a:solidFill>
                  <a:srgbClr val="3333ff"/>
                </a:solidFill>
                <a:latin typeface="Arial"/>
              </a:rPr>
              <a:t>Агенси индустријског порекл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Средински хемијски мутагени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9528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Пестициди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Инсектициди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Винилхлорид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Адитиви, конзерванси, боје у прехрамбеној индустрији, емулгатори (Е123, 221-226, 250-251, 320-322, 338-341...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Лекови (цитостатици, седативи, антибиотици, дроге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Нп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р. ефекат </a:t>
            </a:r>
            <a:r>
              <a:rPr b="0" lang="sr-Latn-CS" sz="2200" spc="-1" strike="noStrike">
                <a:solidFill>
                  <a:srgbClr val="ff0066"/>
                </a:solidFill>
                <a:latin typeface="Arial"/>
                <a:ea typeface="Arial"/>
              </a:rPr>
              <a:t>Талидомид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(мутагено и тератогено дејство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Ефекат талидомид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Picture 4" descr="thalidomidecollage1"/>
          <p:cNvPicPr/>
          <p:nvPr/>
        </p:nvPicPr>
        <p:blipFill>
          <a:blip r:embed="rId1"/>
          <a:stretch/>
        </p:blipFill>
        <p:spPr>
          <a:xfrm>
            <a:off x="250920" y="1484280"/>
            <a:ext cx="889308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1547280" y="1052280"/>
            <a:ext cx="56898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ФИЗИЧКИ АГЕНСИ: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c00000"/>
                </a:solidFill>
                <a:latin typeface="Arial"/>
                <a:ea typeface="Arial"/>
              </a:rPr>
              <a:t>Нејонизујуће</a:t>
            </a:r>
            <a:r>
              <a:rPr b="0" lang="sr-CS" sz="2800" spc="-1" strike="noStrike">
                <a:solidFill>
                  <a:srgbClr val="c00000"/>
                </a:solidFill>
                <a:latin typeface="Arial"/>
                <a:ea typeface="Arial"/>
              </a:rPr>
              <a:t> зрачењ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sr-CS" sz="2800" spc="-1" strike="noStrike">
                <a:solidFill>
                  <a:srgbClr val="c00000"/>
                </a:solidFill>
                <a:latin typeface="Arial"/>
                <a:ea typeface="Arial"/>
              </a:rPr>
              <a:t>Јонизујуће</a:t>
            </a:r>
            <a:r>
              <a:rPr b="0" lang="sr-CS" sz="2800" spc="-1" strike="noStrike">
                <a:solidFill>
                  <a:srgbClr val="c00000"/>
                </a:solidFill>
                <a:latin typeface="Arial"/>
                <a:ea typeface="Arial"/>
              </a:rPr>
              <a:t> зрачењ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600" spc="-1" strike="noStrike">
                <a:solidFill>
                  <a:srgbClr val="ff0066"/>
                </a:solidFill>
                <a:latin typeface="Arial"/>
              </a:rPr>
              <a:t>Нејонизујуће зрачење - </a:t>
            </a:r>
            <a:r>
              <a:rPr b="1" lang="sr-Latn-CS" sz="4600" spc="-1" strike="noStrike">
                <a:solidFill>
                  <a:srgbClr val="ff0066"/>
                </a:solidFill>
                <a:latin typeface="Arial"/>
              </a:rPr>
              <a:t>UV</a:t>
            </a:r>
            <a:r>
              <a:rPr b="1" lang="sr-Latn-CS" sz="4600" spc="-1" strike="noStrike">
                <a:solidFill>
                  <a:srgbClr val="7030a0"/>
                </a:solidFill>
                <a:latin typeface="Calibri"/>
              </a:rPr>
              <a:t> 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ала продорност кроз ткив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сетљивији су организми на н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ем ступњу еволутивне лествиц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Ефекат зависи од фазе ћелијског циклус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Ефекат зависи од употребљене доз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а повећањем дозе расте фреквенца оштећења (постоји праг деловања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еханизам дејств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астају  димери у молекулу ДНК (најчешће Т=Т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0066"/>
                </a:solidFill>
                <a:latin typeface="Arial"/>
              </a:rPr>
              <a:t>Јонизујуће зрачење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3628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вако зрачење које у току интеракције са материјом кроз коју пролази може да врши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јонизацију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атома и молекул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брајамо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CS" sz="2400" spc="-1" strike="noStrike">
                <a:solidFill>
                  <a:srgbClr val="3333ff"/>
                </a:solidFill>
                <a:latin typeface="Arial"/>
              </a:rPr>
              <a:t>електромагнетне талас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(Х-зраци и гама-зраци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CS" sz="2400" spc="-1" strike="noStrike">
                <a:solidFill>
                  <a:srgbClr val="3333ff"/>
                </a:solidFill>
                <a:latin typeface="Arial"/>
              </a:rPr>
              <a:t>корпускуларно зрачењ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(електрони, протони, позитрони, алфа-зраци и неутрони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0066"/>
                </a:solidFill>
                <a:latin typeface="Arial"/>
              </a:rPr>
              <a:t>Јонизујуће зрачење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9528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Остварује кумулативни ефекат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Е </a:t>
            </a:r>
            <a:r>
              <a:rPr b="1" lang="sr-Latn-CS" sz="2400" spc="-1" strike="noStrike">
                <a:solidFill>
                  <a:srgbClr val="0000ff"/>
                </a:solidFill>
                <a:latin typeface="Arial"/>
              </a:rPr>
              <a:t>постоји пра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дејств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еханизам дејства се објашњава </a:t>
            </a:r>
            <a:r>
              <a:rPr b="1" lang="sr-CS" sz="2400" spc="-1" strike="noStrike">
                <a:solidFill>
                  <a:srgbClr val="0000ff"/>
                </a:solidFill>
                <a:latin typeface="Arial"/>
              </a:rPr>
              <a:t>т</a:t>
            </a:r>
            <a:r>
              <a:rPr b="1" lang="sr-Latn-CS" sz="2400" spc="-1" strike="noStrike">
                <a:solidFill>
                  <a:srgbClr val="0000ff"/>
                </a:solidFill>
                <a:latin typeface="Arial"/>
              </a:rPr>
              <a:t>еоријом слободних радикала</a:t>
            </a:r>
            <a:r>
              <a:rPr b="0" lang="sr-Latn-C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фекти на ДНК могу бити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1. директн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2. индиректн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27" name="Object 7"/>
          <p:cNvGraphicFramePr/>
          <p:nvPr/>
        </p:nvGraphicFramePr>
        <p:xfrm>
          <a:off x="6012000" y="3645000"/>
          <a:ext cx="2568600" cy="29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2000" y="3645000"/>
                    <a:ext cx="2568600" cy="29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Спонтане мутације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000" y="2133360"/>
            <a:ext cx="8435880" cy="38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познати фактори који доводе до мутациј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решке приликом репликације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понтана стопа мутације по гену износ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понтана стопа мутације по нуклеотиду износ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0066"/>
                </a:solidFill>
                <a:latin typeface="Arial"/>
              </a:rPr>
              <a:t>Јонизујуће зрачење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4000" y="2133360"/>
            <a:ext cx="4681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На молекулу ДНК изазива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једноланчане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прекид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дволанчане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прекид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1" name="Picture 4" descr="slika - zracenje i DNK"/>
          <p:cNvPicPr/>
          <p:nvPr/>
        </p:nvPicPr>
        <p:blipFill>
          <a:blip r:embed="rId1"/>
          <a:stretch/>
        </p:blipFill>
        <p:spPr>
          <a:xfrm>
            <a:off x="5437080" y="1773360"/>
            <a:ext cx="370692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0066"/>
                </a:solidFill>
                <a:latin typeface="Arial"/>
              </a:rPr>
              <a:t>Јонизујуће зрачење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9528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Ефекат зависи од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врсте организм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најосетљивији су сисари, а међу њима човек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лулетална доза за човека је  4-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y, инсекте 1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y, бактерије 5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y, Протозое 10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y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физиолошког стањ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организм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фазе 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ћелијског циклус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500" spc="-1" strike="noStrike">
                <a:solidFill>
                  <a:srgbClr val="000000"/>
                </a:solidFill>
                <a:latin typeface="Arial"/>
              </a:rPr>
              <a:t>Промене у генетичком материјалу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1.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нумеричке аберације хромозом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структурне аберације хромозом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3.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генске мутације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400" spc="-1" strike="noStrike">
                <a:solidFill>
                  <a:srgbClr val="000000"/>
                </a:solidFill>
                <a:latin typeface="Arial"/>
              </a:rPr>
              <a:t>Фактори који појачавају генотоксични ефекат јонизујућег зрачења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645a9e"/>
                </a:solidFill>
                <a:latin typeface="Constantia"/>
              </a:rPr>
              <a:t>              </a:t>
            </a:r>
            <a:r>
              <a:rPr b="1" lang="en-US" sz="3600" spc="-1" strike="noStrike">
                <a:solidFill>
                  <a:srgbClr val="645a9e"/>
                </a:solidFill>
                <a:latin typeface="Constantia"/>
              </a:rPr>
              <a:t>	</a:t>
            </a:r>
            <a:r>
              <a:rPr b="1" lang="sr-CS" sz="3600" spc="-1" strike="noStrike">
                <a:solidFill>
                  <a:srgbClr val="ff0066"/>
                </a:solidFill>
                <a:latin typeface="Arial"/>
              </a:rPr>
              <a:t>кисеоник -  </a:t>
            </a:r>
            <a:r>
              <a:rPr b="1" lang="sr-Latn-CS" sz="3600" spc="-1" strike="noStrike">
                <a:solidFill>
                  <a:srgbClr val="ff0066"/>
                </a:solidFill>
                <a:latin typeface="Arial"/>
              </a:rPr>
              <a:t>O</a:t>
            </a:r>
            <a:r>
              <a:rPr b="1" lang="sr-Latn-CS" sz="3600" spc="-1" strike="noStrike" baseline="-25000">
                <a:solidFill>
                  <a:srgbClr val="ff0066"/>
                </a:solidFill>
                <a:latin typeface="Arial"/>
              </a:rPr>
              <a:t>2</a:t>
            </a:r>
            <a:r>
              <a:rPr b="1" lang="sr-Latn-CS" sz="3600" spc="-1" strike="noStrike" baseline="30000">
                <a:solidFill>
                  <a:srgbClr val="cc0099"/>
                </a:solidFill>
                <a:latin typeface="Constant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Кисеонички ефекат има улогу у формирању реактивних пероксида - слободних радикал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50560" y="620640"/>
            <a:ext cx="8893080" cy="966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000000"/>
                </a:solidFill>
                <a:latin typeface="Constantia"/>
              </a:rPr>
              <a:t>Биолошки мутагени - </a:t>
            </a:r>
            <a:r>
              <a:rPr b="1" lang="sr-CS" sz="4800" spc="-1" strike="noStrike">
                <a:solidFill>
                  <a:srgbClr val="ff0066"/>
                </a:solidFill>
                <a:latin typeface="Constantia"/>
              </a:rPr>
              <a:t>вируси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344520" indent="-2944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ДНК вирус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4520" indent="-2944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РНК вирус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4520" indent="-2944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посебна група РНК вируса - РНК-ДНК вируси </a:t>
            </a:r>
            <a:r>
              <a:rPr b="0" lang="sr-Latn-C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4520" indent="-294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4520" indent="-294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- субцелуларни организм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4520" indent="-294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- немају способност док су слободни у ваздуху да се размножавај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4520" indent="-294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- немају сопствени метаболизам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4520" indent="-294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- показују јасан афинитет према одређеним генима или деловима хромозом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4520" indent="-294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4520" indent="-294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nstantia"/>
              </a:rPr>
              <a:t>Вирусна нуклеинска киселина се у ћелији домаћину умножава </a:t>
            </a:r>
            <a:r>
              <a:rPr b="1" lang="sr-Latn-CS" sz="2400" spc="-1" strike="noStrike">
                <a:solidFill>
                  <a:srgbClr val="000000"/>
                </a:solidFill>
                <a:latin typeface="Constantia"/>
              </a:rPr>
              <a:t>зависно (лизогена</a:t>
            </a:r>
            <a:r>
              <a:rPr b="0" lang="sr-Latn-CS" sz="2400" spc="-1" strike="noStrike">
                <a:solidFill>
                  <a:srgbClr val="000000"/>
                </a:solidFill>
                <a:latin typeface="Constantia"/>
              </a:rPr>
              <a:t> инфекција)или </a:t>
            </a:r>
            <a:r>
              <a:rPr b="1" lang="sr-Latn-CS" sz="2400" spc="-1" strike="noStrike">
                <a:solidFill>
                  <a:srgbClr val="000000"/>
                </a:solidFill>
                <a:latin typeface="Constantia"/>
              </a:rPr>
              <a:t>независно (литичка</a:t>
            </a:r>
            <a:r>
              <a:rPr b="0" lang="sr-Latn-CS" sz="2400" spc="-1" strike="noStrike">
                <a:solidFill>
                  <a:srgbClr val="000000"/>
                </a:solidFill>
                <a:latin typeface="Constantia"/>
              </a:rPr>
              <a:t> инфекција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4520" indent="-294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4520" indent="-294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344520" indent="-2944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000000"/>
                </a:solidFill>
                <a:latin typeface="Arial"/>
              </a:rPr>
              <a:t>Улога вируса у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55640" y="2637000"/>
            <a:ext cx="7632720" cy="32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onstantia"/>
              </a:rPr>
              <a:t>1. </a:t>
            </a:r>
            <a:r>
              <a:rPr b="0" lang="sr-CS" sz="2600" spc="-1" strike="noStrike">
                <a:solidFill>
                  <a:srgbClr val="0000ff"/>
                </a:solidFill>
                <a:latin typeface="Constantia"/>
              </a:rPr>
              <a:t>патогенез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onstantia"/>
              </a:rPr>
              <a:t>2. </a:t>
            </a:r>
            <a:r>
              <a:rPr b="0" lang="sr-CS" sz="2600" spc="-1" strike="noStrike">
                <a:solidFill>
                  <a:srgbClr val="0000ff"/>
                </a:solidFill>
                <a:latin typeface="Constantia"/>
              </a:rPr>
              <a:t>онкогенези </a:t>
            </a:r>
            <a:r>
              <a:rPr b="0" lang="sr-CS" sz="2600" spc="-1" strike="noStrike">
                <a:solidFill>
                  <a:srgbClr val="000000"/>
                </a:solidFill>
                <a:latin typeface="Constantia"/>
              </a:rPr>
              <a:t>- вирусни онкоген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onstantia"/>
              </a:rPr>
              <a:t>3. </a:t>
            </a:r>
            <a:r>
              <a:rPr b="0" lang="sr-CS" sz="2600" spc="-1" strike="noStrike">
                <a:solidFill>
                  <a:srgbClr val="0000ff"/>
                </a:solidFill>
                <a:latin typeface="Constantia"/>
              </a:rPr>
              <a:t>променама у генетичком материјалу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onstantia"/>
              </a:rPr>
              <a:t>генске мутације, хромозомске аберације типа прекид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6600" spc="-1" strike="noStrike">
                <a:solidFill>
                  <a:srgbClr val="000000"/>
                </a:solidFill>
                <a:latin typeface="Arial"/>
                <a:ea typeface="Arial"/>
              </a:rPr>
              <a:t>вежба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1267920"/>
            <a:ext cx="8675640" cy="25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  <a:ea typeface="Arial"/>
              </a:rPr>
              <a:t>ТЕСТОВИ ЗА ДЕТЕКЦИЈУ   ГЕНОТОКСИЧНИХ АГЕНАСА 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1. Хумани кариотип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2. Стандардизација хуманог кариотип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Различити агенси присутни у човековој средини имају способност индуковања промена у наследном материјалу герминативних или соматских ћелија човека. Овакви агенси се означавају као </a:t>
            </a: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ГЕНОТОКСИЧНИ</a:t>
            </a:r>
            <a:r>
              <a:rPr b="0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АГЕНСИ</a:t>
            </a:r>
            <a:r>
              <a:rPr b="0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305920" cy="14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Генетичка токсикологија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-360" y="2060280"/>
            <a:ext cx="899172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сновни задатак је </a:t>
            </a:r>
            <a:r>
              <a:rPr b="0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детекција генотоксичних агенас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 генетичкој токсикологији постоји систем одабирања и давања приоритета супстанцама које треба тестирати -</a:t>
            </a: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селекција пиоритета</a:t>
            </a:r>
            <a:r>
              <a:rPr b="0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Индуковане мутације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964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Фактори који могу проузроковати мутације су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600" spc="-1" strike="noStrike">
                <a:solidFill>
                  <a:srgbClr val="ff0066"/>
                </a:solidFill>
                <a:latin typeface="Arial"/>
              </a:rPr>
              <a:t>МУТАГЕНИ АГЕНСИ</a:t>
            </a:r>
            <a:r>
              <a:rPr b="0" lang="sr-C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(фактори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топа индуковане мутације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: сваки 7. нуклеотид на 100 нуклеотида претрпи мутацију!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Изучавање мутација – вештачко индуковање мутација помоћу различитих мутагених агенас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040" y="549000"/>
            <a:ext cx="6681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Селекција приоритет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332000" y="2276280"/>
            <a:ext cx="651672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овопроизведене супстанце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ешавине старих супстанци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ешавине нових и старих супстанц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4.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упстанце којима се мења намен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Општи квалитети тестов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Применљивост добијених резултата на човек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Осетљивос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Поновљивост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Способност детекције генотоксичног потенцијала што већег броја агенаса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Адекватна статистичка анализа резултат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Брзина извођења тест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Једноставност извођења теста и цена коштањ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900000" y="1628640"/>
            <a:ext cx="783432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 литератури је познато преко 100 експерименталних процеду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 у Европи се од 1986. год. примењује 15 основних тестова груписаних на основу генетичког ефекта који детектују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539640" y="2543040"/>
            <a:ext cx="822960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ТЕСТОВИ КОЈИМА СЕ ДЕТЕКТУЈУ </a:t>
            </a:r>
            <a:r>
              <a:rPr b="1" lang="sr-CS" sz="2200" spc="-1" strike="noStrike">
                <a:solidFill>
                  <a:srgbClr val="c00000"/>
                </a:solidFill>
                <a:latin typeface="Arial"/>
                <a:ea typeface="Arial"/>
              </a:rPr>
              <a:t>ГЕНСКЕ МУТАЦИЈЕ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ТЕСТОВИ ЗА ДЕТЕКЦИЈУ </a:t>
            </a:r>
            <a:r>
              <a:rPr b="1" lang="sr-CS" sz="2200" spc="-1" strike="noStrike">
                <a:solidFill>
                  <a:srgbClr val="c00000"/>
                </a:solidFill>
                <a:latin typeface="Arial"/>
                <a:ea typeface="Arial"/>
              </a:rPr>
              <a:t>ХРОМОЗОМСКИХ АБЕРАЦИЈ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ТЕСТОВИ ЗА ОТКРИВАЊЕ </a:t>
            </a:r>
            <a:r>
              <a:rPr b="1" lang="sr-CS" sz="2200" spc="-1" strike="noStrike">
                <a:solidFill>
                  <a:srgbClr val="c00000"/>
                </a:solidFill>
                <a:latin typeface="Arial"/>
                <a:ea typeface="Arial"/>
              </a:rPr>
              <a:t>ЕФЕКАТА НА НИВОУ ДНК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Rectangle 2"/>
          <p:cNvSpPr/>
          <p:nvPr/>
        </p:nvSpPr>
        <p:spPr>
          <a:xfrm>
            <a:off x="357120" y="571680"/>
            <a:ext cx="842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ви тестови подељени су на три основне груп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90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1" lang="sr-Latn-CS" sz="3200" spc="-1" strike="noStrike">
                <a:solidFill>
                  <a:srgbClr val="c00000"/>
                </a:solidFill>
                <a:latin typeface="Arial"/>
                <a:ea typeface="Arial"/>
              </a:rPr>
              <a:t>SCE</a:t>
            </a: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 тес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тест размене сестринских хроматид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5" name="Picture 3" descr="SCE"/>
          <p:cNvPicPr/>
          <p:nvPr/>
        </p:nvPicPr>
        <p:blipFill>
          <a:blip r:embed="rId1"/>
          <a:stretch/>
        </p:blipFill>
        <p:spPr>
          <a:xfrm>
            <a:off x="54000" y="3290760"/>
            <a:ext cx="9090000" cy="23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-360" y="114300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00000"/>
                </a:solidFill>
                <a:latin typeface="Arial"/>
                <a:ea typeface="Arial"/>
              </a:rPr>
              <a:t>SCE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 тестом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е прате оштећења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а нивоу ДНК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упстанца 5-бромдеоксиуридин-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5-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rdU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ати се раст ћелија у култури и разликују се </a:t>
            </a:r>
            <a:r>
              <a:rPr b="0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М1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М2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0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М3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митоз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0" y="257040"/>
            <a:ext cx="464832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1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1" lang="sr-CS" sz="31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sr-CS" sz="3100" spc="-1" strike="noStrike">
                <a:solidFill>
                  <a:srgbClr val="000000"/>
                </a:solidFill>
                <a:latin typeface="Arial"/>
                <a:ea typeface="Arial"/>
              </a:rPr>
              <a:t> митоз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8" name="Picture 4" descr="Slika 2"/>
          <p:cNvPicPr/>
          <p:nvPr/>
        </p:nvPicPr>
        <p:blipFill>
          <a:blip r:embed="rId1"/>
          <a:stretch/>
        </p:blipFill>
        <p:spPr>
          <a:xfrm>
            <a:off x="3276720" y="333360"/>
            <a:ext cx="4365360" cy="62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-360" y="245880"/>
            <a:ext cx="47242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1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1" lang="sr-CS" sz="31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sr-CS" sz="3100" spc="-1" strike="noStrike">
                <a:solidFill>
                  <a:srgbClr val="000000"/>
                </a:solidFill>
                <a:latin typeface="Arial"/>
                <a:ea typeface="Arial"/>
              </a:rPr>
              <a:t> митоз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0" name="Picture 4" descr="Slika 1"/>
          <p:cNvPicPr/>
          <p:nvPr/>
        </p:nvPicPr>
        <p:blipFill>
          <a:blip r:embed="rId1"/>
          <a:stretch/>
        </p:blipFill>
        <p:spPr>
          <a:xfrm>
            <a:off x="2627280" y="333360"/>
            <a:ext cx="426708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0" y="856800"/>
            <a:ext cx="4038480" cy="55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9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1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1" lang="sr-CS" sz="31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sr-CS" sz="3100" spc="-1" strike="noStrike">
                <a:solidFill>
                  <a:srgbClr val="000000"/>
                </a:solidFill>
                <a:latin typeface="Arial"/>
                <a:ea typeface="Arial"/>
              </a:rPr>
              <a:t> митоз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2" name="Picture 4" descr="Slika 3"/>
          <p:cNvPicPr/>
          <p:nvPr/>
        </p:nvPicPr>
        <p:blipFill>
          <a:blip r:embed="rId1"/>
          <a:stretch/>
        </p:blipFill>
        <p:spPr>
          <a:xfrm>
            <a:off x="3348000" y="1052640"/>
            <a:ext cx="49528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Механизам настанка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SCE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-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0" y="1857240"/>
            <a:ext cx="91440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Размена сестринских хроматида настаје као последица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crossing over-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 митози (соматски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crossing over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ест размене сестринских хроматид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је </a:t>
            </a:r>
            <a:r>
              <a:rPr b="0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реципрочна размена сегменат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који се налазе на </a:t>
            </a:r>
            <a:r>
              <a:rPr b="0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хомологим локусима две сестринске хроматиде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етафазног хромозома</a:t>
            </a:r>
            <a:r>
              <a:rPr b="0" lang="sr-CS" sz="2400" spc="-1" strike="noStrike">
                <a:solidFill>
                  <a:srgbClr val="7030a0"/>
                </a:solidFill>
                <a:latin typeface="Arial"/>
                <a:ea typeface="Arial"/>
              </a:rPr>
              <a:t>.   </a:t>
            </a:r>
            <a:r>
              <a:rPr b="0" lang="sr-Latn-CS" sz="2400" spc="-1" strike="noStrike">
                <a:solidFill>
                  <a:srgbClr val="7030a0"/>
                </a:solidFill>
                <a:latin typeface="Arial"/>
                <a:ea typeface="Arial"/>
              </a:rPr>
              <a:t>  </a:t>
            </a:r>
            <a:r>
              <a:rPr b="0" lang="sr-CS" sz="24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Агенс може да оствари своје ефекте на свим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нивоима организације живе материје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на нивоу ћелиј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на нивоу ткив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на нивоу организм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Агенс може да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делује на више различитих начина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CS" sz="2600" spc="-1" strike="noStrike">
                <a:solidFill>
                  <a:srgbClr val="3333ff"/>
                </a:solidFill>
                <a:latin typeface="Arial"/>
              </a:rPr>
              <a:t>канцерогено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– узрокује малигну трансформацију ћелиј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CS" sz="2600" spc="-1" strike="noStrike">
                <a:solidFill>
                  <a:srgbClr val="3333ff"/>
                </a:solidFill>
                <a:latin typeface="Arial"/>
              </a:rPr>
              <a:t>мутагено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– узрокује мутацију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CS" sz="2600" spc="-1" strike="noStrike">
                <a:solidFill>
                  <a:srgbClr val="3333ff"/>
                </a:solidFill>
                <a:latin typeface="Arial"/>
              </a:rPr>
              <a:t>тератогено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– узрокује промену у структури органа током ембрионалног развић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CS" sz="2600" spc="-1" strike="noStrike">
                <a:solidFill>
                  <a:srgbClr val="3333ff"/>
                </a:solidFill>
                <a:latin typeface="Arial"/>
              </a:rPr>
              <a:t>токсично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– убија ћелиј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CS" sz="2600" spc="-1" strike="noStrike">
                <a:solidFill>
                  <a:srgbClr val="3333ff"/>
                </a:solidFill>
                <a:latin typeface="Arial"/>
              </a:rPr>
              <a:t>биолошки неутрално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– не узрокује промен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525240"/>
            <a:ext cx="2071800" cy="145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HUMAN SISTER CHROMATID EXCHANGES </a:t>
            </a:r>
            <a:endParaRPr b="0" lang="en-US" sz="17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0" y="6292800"/>
            <a:ext cx="9144000" cy="4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uman lymphocyte cells treated with bromodeoxyuridine (BrdU) and stained with propidium iodide.</a:t>
            </a:r>
            <a:r>
              <a:rPr b="0" lang="sr-R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ubmitted by Portia Cortes, California State University-Stanislaus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7" name="Picture 4" descr="sce.gif (104999 bytes)"/>
          <p:cNvPicPr/>
          <p:nvPr/>
        </p:nvPicPr>
        <p:blipFill>
          <a:blip r:embed="rId1"/>
          <a:stretch/>
        </p:blipFill>
        <p:spPr>
          <a:xfrm>
            <a:off x="2195640" y="260280"/>
            <a:ext cx="6151320" cy="58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foto_SCE"/>
          <p:cNvPicPr/>
          <p:nvPr/>
        </p:nvPicPr>
        <p:blipFill>
          <a:blip r:embed="rId1"/>
          <a:stretch/>
        </p:blipFill>
        <p:spPr>
          <a:xfrm>
            <a:off x="1944720" y="457200"/>
            <a:ext cx="5032440" cy="59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680" y="571680"/>
            <a:ext cx="7772400" cy="88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  <a:ea typeface="Arial"/>
              </a:rPr>
              <a:t>МИКРОНУКЛЕУС ТЕСТ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0" name="Picture 3" descr="MN sema najnovija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39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-360" y="857160"/>
            <a:ext cx="838188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икронуклеус тест се користи за детекцију </a:t>
            </a: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ХРОМОЗОМСКИХ АБЕРАЦИЈ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За детекцију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неугених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ластогених агенас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едност теста - брзина и једноставност извођењ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Заснива се на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осматрању хроматинских телашац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 цитоплазми ћелије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оја изгледају као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ала једра-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микронуклеуси (МН)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2" name="Picture 3" descr=""/>
          <p:cNvPicPr/>
          <p:nvPr/>
        </p:nvPicPr>
        <p:blipFill>
          <a:blip r:embed="rId1"/>
          <a:stretch/>
        </p:blipFill>
        <p:spPr>
          <a:xfrm>
            <a:off x="5668920" y="3986280"/>
            <a:ext cx="3276720" cy="2809800"/>
          </a:xfrm>
          <a:prstGeom prst="rect">
            <a:avLst/>
          </a:prstGeom>
          <a:ln w="0">
            <a:noFill/>
          </a:ln>
        </p:spPr>
      </p:pic>
      <p:sp>
        <p:nvSpPr>
          <p:cNvPr id="273" name="Right Arrow 5"/>
          <p:cNvSpPr/>
          <p:nvPr/>
        </p:nvSpPr>
        <p:spPr>
          <a:xfrm>
            <a:off x="4419720" y="4572000"/>
            <a:ext cx="838080" cy="484200"/>
          </a:xfrm>
          <a:prstGeom prst="rightArrow">
            <a:avLst>
              <a:gd name="adj1" fmla="val 50000"/>
              <a:gd name="adj2" fmla="val 50034"/>
            </a:avLst>
          </a:prstGeom>
          <a:solidFill>
            <a:srgbClr val="0f6fc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-360" y="642600"/>
            <a:ext cx="8839080" cy="59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4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1" lang="sr-CS" sz="3400" spc="-1" strike="noStrike">
                <a:solidFill>
                  <a:srgbClr val="000000"/>
                </a:solidFill>
                <a:latin typeface="Arial"/>
                <a:ea typeface="Arial"/>
              </a:rPr>
              <a:t>еханизам настанка микронуклеус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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sr-C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Хромозомске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поремеће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функција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берације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еобн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ретена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Oval 3"/>
          <p:cNvSpPr/>
          <p:nvPr/>
        </p:nvSpPr>
        <p:spPr>
          <a:xfrm>
            <a:off x="971640" y="1197000"/>
            <a:ext cx="3240000" cy="250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4429080" y="1285920"/>
            <a:ext cx="4011480" cy="235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3" descr=""/>
          <p:cNvPicPr/>
          <p:nvPr/>
        </p:nvPicPr>
        <p:blipFill>
          <a:blip r:embed="rId1"/>
          <a:stretch/>
        </p:blipFill>
        <p:spPr>
          <a:xfrm>
            <a:off x="4214880" y="4076640"/>
            <a:ext cx="4929120" cy="251460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6"/>
          <p:cNvSpPr/>
          <p:nvPr/>
        </p:nvSpPr>
        <p:spPr>
          <a:xfrm>
            <a:off x="179280" y="3789360"/>
            <a:ext cx="38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вим тестом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детектују се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sr-CS" sz="1800" spc="-1" strike="noStrike">
                <a:solidFill>
                  <a:srgbClr val="c00000"/>
                </a:solidFill>
                <a:latin typeface="Arial"/>
              </a:rPr>
              <a:t>прекиди на хромозому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sr-CS" sz="1800" spc="-1" strike="noStrike">
                <a:solidFill>
                  <a:srgbClr val="c00000"/>
                </a:solidFill>
                <a:latin typeface="Arial"/>
              </a:rPr>
              <a:t>оштећење хромозома 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0" lang="sr-CS" sz="1800" spc="-1" strike="noStrike">
                <a:solidFill>
                  <a:srgbClr val="c00000"/>
                </a:solidFill>
                <a:latin typeface="Arial"/>
              </a:rPr>
              <a:t>центромерном реги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рсте ћелија за анализу микронуклеус тестом: 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51920" y="2143080"/>
            <a:ext cx="899172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Сисарски материјал</a:t>
            </a:r>
            <a:r>
              <a:rPr b="0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осна срж миша - полихроматски еритроцит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понтана учесталост 0.31%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1" name="Picture 5" descr="Micronuclei in mouse polychromatic erythrocytes "/>
          <p:cNvPicPr/>
          <p:nvPr/>
        </p:nvPicPr>
        <p:blipFill>
          <a:blip r:embed="rId1"/>
          <a:stretch/>
        </p:blipFill>
        <p:spPr>
          <a:xfrm>
            <a:off x="5219640" y="3573360"/>
            <a:ext cx="3621240" cy="297180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4"/>
          <p:cNvSpPr/>
          <p:nvPr/>
        </p:nvSpPr>
        <p:spPr>
          <a:xfrm>
            <a:off x="152280" y="5715000"/>
            <a:ext cx="563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1. Micronuclei in mouse polychromatic erythrocytes (arrowe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179280" y="1071720"/>
            <a:ext cx="896472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sr-CS" sz="2800" spc="-1" strike="noStrike">
                <a:solidFill>
                  <a:srgbClr val="c00000"/>
                </a:solidFill>
                <a:latin typeface="Arial"/>
                <a:ea typeface="Arial"/>
              </a:rPr>
              <a:t>Хумани материјал</a:t>
            </a:r>
            <a:r>
              <a:rPr b="1" lang="sr-CS" sz="24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ериферна крв човека -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лимфоцит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етода: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цитокинезис блок микронуклеус тест (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CBMN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ес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ултура лимфоцита периферне крви 72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/32</a:t>
            </a:r>
            <a:r>
              <a:rPr b="0" lang="sr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44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од почетка култивације културама се додаје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Цитохалазин Б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(супастанца која блокира цитокинезу, па добијамо ћелије бинуклаерног изгледа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понтана учесталост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0-12 МН/1000 БН ћелиј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4" descr="D:\DOKTORAT RADNA VERZIJA\Slike iz UVODA  za radnu doktorsku disertaciju\BN celije bez MN copy.jpg"/>
          <p:cNvPicPr/>
          <p:nvPr/>
        </p:nvPicPr>
        <p:blipFill>
          <a:blip r:embed="rId1"/>
          <a:stretch/>
        </p:blipFill>
        <p:spPr>
          <a:xfrm>
            <a:off x="0" y="152280"/>
            <a:ext cx="5340240" cy="33004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400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Бинуклеарне ћелије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600" spc="-1" strike="noStrike">
                <a:solidFill>
                  <a:srgbClr val="c00000"/>
                </a:solidFill>
                <a:latin typeface="Arial"/>
                <a:ea typeface="Arial"/>
              </a:rPr>
              <a:t>без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МН </a:t>
            </a:r>
            <a:br>
              <a:rPr sz="2200"/>
            </a:b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Бинуклеарне ћелије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c00000"/>
                </a:solidFill>
                <a:latin typeface="Arial"/>
                <a:ea typeface="Arial"/>
              </a:rPr>
              <a:t>са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МН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6" name="Picture 4" descr="D:\DOKTORAT RADNA VERZIJA\Slike iz UVODA  za radnu doktorsku disertaciju\Slika BN sa MN.jpg"/>
          <p:cNvPicPr/>
          <p:nvPr/>
        </p:nvPicPr>
        <p:blipFill>
          <a:blip r:embed="rId2"/>
          <a:stretch/>
        </p:blipFill>
        <p:spPr>
          <a:xfrm>
            <a:off x="3733920" y="3581280"/>
            <a:ext cx="5410080" cy="3116520"/>
          </a:xfrm>
          <a:prstGeom prst="rect">
            <a:avLst/>
          </a:prstGeom>
          <a:ln w="0">
            <a:noFill/>
          </a:ln>
        </p:spPr>
      </p:pic>
      <p:sp>
        <p:nvSpPr>
          <p:cNvPr id="287" name="Curved Left Arrow 5"/>
          <p:cNvSpPr/>
          <p:nvPr/>
        </p:nvSpPr>
        <p:spPr>
          <a:xfrm>
            <a:off x="7086600" y="1371600"/>
            <a:ext cx="914400" cy="1066680"/>
          </a:xfrm>
          <a:custGeom>
            <a:avLst/>
            <a:gdLst>
              <a:gd name="textAreaLeft" fmla="*/ 122400 w 914400"/>
              <a:gd name="textAreaRight" fmla="*/ 792000 w 914400"/>
              <a:gd name="textAreaTop" fmla="*/ 180720 h 1066680"/>
              <a:gd name="textAreaBottom" fmla="*/ 77148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329" stAng="-5400000" swAng="5400000"/>
                <a:lnTo>
                  <a:pt x="21600" y="11958"/>
                </a:lnTo>
                <a:arcTo wR="21600" hR="7329" stAng="0" swAng="3163700"/>
                <a:lnTo>
                  <a:pt x="5400" y="21367"/>
                </a:lnTo>
                <a:lnTo>
                  <a:pt x="0" y="16972"/>
                </a:lnTo>
                <a:lnTo>
                  <a:pt x="5400" y="12110"/>
                </a:lnTo>
                <a:lnTo>
                  <a:pt x="5400" y="14424"/>
                </a:lnTo>
                <a:arcTo wR="21600" hR="7329" stAng="3163700" swAng="-2777103"/>
                <a:lnTo>
                  <a:pt x="20494" y="9643"/>
                </a:lnTo>
                <a:arcTo wR="21600" hR="7329" stAng="-386597" swAng="-5013403"/>
                <a:close/>
              </a:path>
              <a:path fill="darkenLess" w="21600" h="21600">
                <a:moveTo>
                  <a:pt x="0" y="0"/>
                </a:moveTo>
                <a:arcTo wR="21600" hR="7329" stAng="-5400000" swAng="5400000"/>
                <a:lnTo>
                  <a:pt x="21600" y="11958"/>
                </a:lnTo>
                <a:arcTo wR="21600" hR="7329" stAng="0" swAng="-386597"/>
                <a:lnTo>
                  <a:pt x="20494" y="9643"/>
                </a:lnTo>
                <a:arcTo wR="21600" hR="7329" stAng="-386597" swAng="-5013403"/>
                <a:close/>
              </a:path>
            </a:pathLst>
          </a:custGeom>
          <a:solidFill>
            <a:srgbClr val="0f6fc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Curved Right Arrow 6"/>
          <p:cNvSpPr/>
          <p:nvPr/>
        </p:nvSpPr>
        <p:spPr>
          <a:xfrm>
            <a:off x="1143000" y="4724280"/>
            <a:ext cx="1676520" cy="1295640"/>
          </a:xfrm>
          <a:custGeom>
            <a:avLst/>
            <a:gdLst>
              <a:gd name="textAreaLeft" fmla="*/ 224640 w 1676520"/>
              <a:gd name="textAreaRight" fmla="*/ 1451880 w 1676520"/>
              <a:gd name="textAreaTop" fmla="*/ 202320 h 1295640"/>
              <a:gd name="textAreaBottom" fmla="*/ 93132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3467116"/>
                <a:lnTo>
                  <a:pt x="17427" y="21473"/>
                </a:lnTo>
                <a:lnTo>
                  <a:pt x="21600" y="16200"/>
                </a:lnTo>
                <a:lnTo>
                  <a:pt x="17427" y="10673"/>
                </a:lnTo>
                <a:lnTo>
                  <a:pt x="17427" y="13373"/>
                </a:lnTo>
                <a:arcTo wR="21600" hR="6750" stAng="7332884" swAng="300113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0f6fc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550440"/>
            <a:ext cx="9144000" cy="15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400" spc="-1" strike="noStrike">
                <a:solidFill>
                  <a:srgbClr val="000000"/>
                </a:solidFill>
                <a:latin typeface="Arial"/>
                <a:ea typeface="Gulim"/>
              </a:rPr>
              <a:t>3. </a:t>
            </a:r>
            <a:r>
              <a:rPr b="1" lang="en-US" sz="3400" spc="-1" strike="noStrike">
                <a:solidFill>
                  <a:srgbClr val="c00000"/>
                </a:solidFill>
                <a:latin typeface="Arial"/>
                <a:ea typeface="Gulim"/>
              </a:rPr>
              <a:t>ТЕСТ ХРОМОЗОМСКИХ АБЕРАЦИЈА У СИСАРСКИМ ЋЕЛИЈАМА</a:t>
            </a:r>
            <a:r>
              <a:rPr b="1" lang="en-US" sz="3400" spc="-1" strike="noStrike">
                <a:solidFill>
                  <a:srgbClr val="c00000"/>
                </a:solidFill>
                <a:latin typeface="Arial"/>
                <a:ea typeface="Gulim"/>
              </a:rPr>
              <a:t> 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90" name="Group 3"/>
          <p:cNvGrpSpPr/>
          <p:nvPr/>
        </p:nvGrpSpPr>
        <p:grpSpPr>
          <a:xfrm>
            <a:off x="304920" y="2819520"/>
            <a:ext cx="8838720" cy="3361680"/>
            <a:chOff x="304920" y="2819520"/>
            <a:chExt cx="8838720" cy="3361680"/>
          </a:xfrm>
        </p:grpSpPr>
        <p:graphicFrame>
          <p:nvGraphicFramePr>
            <p:cNvPr id="291" name="Object 4"/>
            <p:cNvGraphicFramePr/>
            <p:nvPr/>
          </p:nvGraphicFramePr>
          <p:xfrm>
            <a:off x="304920" y="2820960"/>
            <a:ext cx="2866320" cy="3360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92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2820960"/>
                      <a:ext cx="2866320" cy="3360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3" name="Object 5"/>
            <p:cNvGraphicFramePr/>
            <p:nvPr/>
          </p:nvGraphicFramePr>
          <p:xfrm>
            <a:off x="3397320" y="2819520"/>
            <a:ext cx="2894760" cy="3332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94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397320" y="2819520"/>
                      <a:ext cx="2894760" cy="333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95" name="Object 6"/>
            <p:cNvGraphicFramePr/>
            <p:nvPr/>
          </p:nvGraphicFramePr>
          <p:xfrm>
            <a:off x="6468840" y="2832840"/>
            <a:ext cx="2674800" cy="3320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96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468840" y="2832840"/>
                      <a:ext cx="2674800" cy="332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151920" y="1714680"/>
            <a:ext cx="899172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Тестом се детектују хромозомске аберације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Постоје две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 врсте тестова: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1" i="1" lang="es-ES" sz="2200" spc="-1" strike="noStrike">
                <a:solidFill>
                  <a:srgbClr val="c00000"/>
                </a:solidFill>
                <a:latin typeface="Arial"/>
                <a:ea typeface="Arial"/>
              </a:rPr>
              <a:t>in vitro</a:t>
            </a:r>
            <a:r>
              <a:rPr b="1" lang="es-ES" sz="22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(у култури ћелија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i="1" lang="es-ES" sz="2200" spc="-1" strike="noStrike">
                <a:solidFill>
                  <a:srgbClr val="c00000"/>
                </a:solidFill>
                <a:latin typeface="Arial"/>
                <a:ea typeface="Arial"/>
              </a:rPr>
              <a:t>in vivo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ајчешћ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RS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ип ћелија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који се користи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за тестирање 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су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1.  </a:t>
            </a:r>
            <a:r>
              <a:rPr b="1" lang="es-ES" sz="2200" spc="-1" strike="noStrike">
                <a:solidFill>
                  <a:srgbClr val="c00000"/>
                </a:solidFill>
                <a:latin typeface="Arial"/>
                <a:ea typeface="Arial"/>
              </a:rPr>
              <a:t>ЛИМФОЦИТИ ПЕРИФЕРНЕ КРВИ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(због једноставности добијања узорка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Ћелијске линије, нпр. </a:t>
            </a:r>
            <a:r>
              <a:rPr b="1" lang="es-ES" sz="2200" spc="-1" strike="noStrike">
                <a:solidFill>
                  <a:srgbClr val="c00000"/>
                </a:solidFill>
                <a:latin typeface="Arial"/>
                <a:ea typeface="Arial"/>
              </a:rPr>
              <a:t>CHO линија</a:t>
            </a:r>
            <a:r>
              <a:rPr b="0" lang="es-ES" sz="22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(ћелије из оваријума кинеског хрчка) има 22 хромозома и ћелијски циклус траје 12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Rectangle 2"/>
          <p:cNvSpPr/>
          <p:nvPr/>
        </p:nvSpPr>
        <p:spPr>
          <a:xfrm>
            <a:off x="142920" y="357120"/>
            <a:ext cx="8643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Gulim"/>
              </a:rPr>
              <a:t>ТЕСТ ХРОМОЗОМСКИХ АБЕРАЦИЈА У СИСАРСКИМ ЋЕЛИЈАМА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484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Фактори који узрокују мутације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826920" y="1988640"/>
            <a:ext cx="8066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1" lang="sr-CS" sz="2800" spc="-1" strike="noStrike">
                <a:solidFill>
                  <a:srgbClr val="ff0066"/>
                </a:solidFill>
                <a:latin typeface="Arial"/>
                <a:ea typeface="Arial"/>
              </a:rPr>
              <a:t>Хемијск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агенс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sr-CS" sz="2800" spc="-1" strike="noStrike">
                <a:solidFill>
                  <a:srgbClr val="ff0066"/>
                </a:solidFill>
                <a:latin typeface="Arial"/>
                <a:ea typeface="Arial"/>
              </a:rPr>
              <a:t>Физички</a:t>
            </a:r>
            <a:r>
              <a:rPr b="0" lang="sr-CS" sz="28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агенси – зрачењ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температура..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1" lang="sr-CS" sz="2800" spc="-1" strike="noStrike">
                <a:solidFill>
                  <a:srgbClr val="ff0066"/>
                </a:solidFill>
                <a:latin typeface="Arial"/>
                <a:ea typeface="Arial"/>
              </a:rPr>
              <a:t>Биолошк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агенси – вирус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971640" y="1491840"/>
            <a:ext cx="752472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c00000"/>
                </a:solidFill>
                <a:latin typeface="Arial"/>
                <a:ea typeface="Arial"/>
              </a:rPr>
              <a:t>РЕЗУЛТАТ</a:t>
            </a:r>
            <a:r>
              <a:rPr b="0" lang="es-ES" sz="22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es-ES" sz="2200" spc="-1" strike="noStrike">
                <a:solidFill>
                  <a:srgbClr val="c00000"/>
                </a:solidFill>
                <a:latin typeface="Arial"/>
                <a:ea typeface="Arial"/>
              </a:rPr>
              <a:t>ТЕСТА</a:t>
            </a:r>
            <a:r>
              <a:rPr b="0" lang="es-ES" sz="2200" spc="-1" strike="noStrike">
                <a:solidFill>
                  <a:srgbClr val="c00000"/>
                </a:solidFill>
                <a:latin typeface="Arial"/>
                <a:ea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На добијеним препаратима анализирају с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ХРОМОЗОМСКЕ АБЕРАЦИЈ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Најчешће су то </a:t>
            </a:r>
            <a:r>
              <a:rPr b="1" lang="es-ES" sz="2200" spc="-1" strike="noStrike">
                <a:solidFill>
                  <a:srgbClr val="c00000"/>
                </a:solidFill>
                <a:latin typeface="Arial"/>
                <a:ea typeface="Arial"/>
              </a:rPr>
              <a:t>хромозомски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1" lang="es-ES" sz="2200" spc="-1" strike="noStrike">
                <a:solidFill>
                  <a:srgbClr val="c00000"/>
                </a:solidFill>
                <a:latin typeface="Arial"/>
                <a:ea typeface="Arial"/>
              </a:rPr>
              <a:t>хроматидни прекиди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, а ређе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инверзије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транслокације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Треба прегледати око 30 хромозомских гарниту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Статистичка обрада резулта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990720" y="380880"/>
            <a:ext cx="7315200" cy="63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000000"/>
                </a:solidFill>
                <a:latin typeface="Arial"/>
              </a:rPr>
              <a:t>Хемијски агенс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95280" y="1412640"/>
            <a:ext cx="83311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 1949. познато је да хемијске супстанце могу изазвати промене у генетичком материјал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Зависно од </a:t>
            </a:r>
            <a:r>
              <a:rPr b="1" lang="sr-Latn-CS" sz="2400" spc="-1" strike="noStrike">
                <a:solidFill>
                  <a:srgbClr val="0000ff"/>
                </a:solidFill>
                <a:latin typeface="Arial"/>
              </a:rPr>
              <a:t>фазе ћелијског циклус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узрокују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аберације 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хроматидно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G2 и S фази)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ип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берације 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хромозомско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G1 фази) тип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оличина оштећења пропорционална је употребљеној </a:t>
            </a:r>
            <a:r>
              <a:rPr b="1" lang="sr-Latn-CS" sz="2400" spc="-1" strike="noStrike" u="sng">
                <a:solidFill>
                  <a:srgbClr val="0000ff"/>
                </a:solidFill>
                <a:uFillTx/>
                <a:latin typeface="Arial"/>
              </a:rPr>
              <a:t>доз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Доза је количина супстанце која реагује са молекулом ДНК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пецифични су у индукцији промен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код одређеног пол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 одређеној фази ћел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јско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циклус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огу да доведу до мутација у било ком делу генома, тј. у било ком гену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484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Промене у генетичком материјалу</a:t>
            </a:r>
            <a:r>
              <a:rPr b="0" lang="sr-Latn-CS" sz="45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CS" sz="4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50560" y="1341360"/>
            <a:ext cx="88930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0066"/>
                </a:solidFill>
                <a:latin typeface="Arial"/>
              </a:rPr>
              <a:t>1. </a:t>
            </a:r>
            <a:r>
              <a:rPr b="1" lang="sr-CS" sz="2600" spc="-1" strike="noStrike" u="sng">
                <a:solidFill>
                  <a:srgbClr val="ff0066"/>
                </a:solidFill>
                <a:uFillTx/>
                <a:latin typeface="Arial"/>
              </a:rPr>
              <a:t>ХРОМОЗОМСКЕ АБЕРАЦИЈ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lang="sr-CS" sz="2400" spc="-1" strike="noStrike">
                <a:solidFill>
                  <a:srgbClr val="0033cc"/>
                </a:solidFill>
                <a:latin typeface="Arial"/>
              </a:rPr>
              <a:t>Нумеричк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аберације хромозома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полиплоидије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анеуплоидиј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1" lang="sr-CS" sz="2400" spc="-1" strike="noStrike">
                <a:solidFill>
                  <a:srgbClr val="0033cc"/>
                </a:solidFill>
                <a:latin typeface="Arial"/>
              </a:rPr>
              <a:t> Структурн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аберације хромозома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аберације типа прекид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хроматидних и хромозомск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ахроматске лезије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инверзије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прстенасти хромозом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дицентрични хромозоми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транслокациј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0066"/>
                </a:solidFill>
                <a:latin typeface="Arial"/>
              </a:rPr>
              <a:t>2.</a:t>
            </a:r>
            <a:r>
              <a:rPr b="1" lang="sr-CS" sz="2600" spc="-1" strike="noStrike" u="sng">
                <a:solidFill>
                  <a:srgbClr val="ff0066"/>
                </a:solidFill>
                <a:uFillTx/>
                <a:latin typeface="Arial"/>
              </a:rPr>
              <a:t> ГЕНСКЕ МУТАЦИЈ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53964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8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95000"/>
              <a:buFont typeface="Times New Roman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Реакција хемијских агенаса са молекулом ДНК може бити: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иректна </a:t>
            </a:r>
            <a:br>
              <a:rPr sz="3200"/>
            </a:b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индиректна </a:t>
            </a:r>
            <a:br>
              <a:rPr sz="3200"/>
            </a:b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i="1" lang="sr-CS" sz="3200" spc="-1" strike="noStrike">
                <a:solidFill>
                  <a:srgbClr val="000000"/>
                </a:solidFill>
                <a:latin typeface="Arial"/>
              </a:rPr>
              <a:t>захтевају метаболичку активацију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21:33:24Z</dcterms:created>
  <dc:creator>User</dc:creator>
  <dc:description/>
  <dc:language>en-US</dc:language>
  <cp:lastModifiedBy>Korisnik</cp:lastModifiedBy>
  <dcterms:modified xsi:type="dcterms:W3CDTF">2021-08-26T09:17:26Z</dcterms:modified>
  <cp:revision>235</cp:revision>
  <dc:subject/>
  <dc:title>MUTACIJE GENA</dc:title>
</cp:coreProperties>
</file>